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2590-F38C-46B5-B2DE-1C31F9B4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E748-8BA4-45AC-A9FB-E26E1F0A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042C-CFB4-4F76-A6A4-E524F624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EC7-2B37-4D6E-AD77-17207C87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7EC5-40CB-4686-AD3C-E45BBEC7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B67E-3EE4-4B90-9368-FA9AC9CC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F4F7-91AD-4E30-B0F7-858664F6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999C-76DD-43E5-B31B-0549B13B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0789-4DCF-41C4-B48D-D49A807B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4279-F32F-46F2-A8D1-D312163B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256D-42C0-438A-A383-78A5002B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1A45-BE2C-487B-8CE1-92F7AC86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79D9-E33F-4F5E-9690-F5D8A5D1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F7D2-075B-4D06-9AB7-4ABD71E5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6493-7759-4E54-88D2-2136C650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5E0C-E272-44E4-8984-380E5F5D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D39C-BB96-4728-9FF1-2362BAED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1421-32A9-48D1-BE2C-6341BB1D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DB9C-855C-4A2B-9E35-CD004480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25A-707E-4AE3-A734-9CBC7E62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63A3-9638-4481-B6DF-8EBEC311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84F-25B5-496A-B827-1333BC5D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8F0B-CA2B-4CC3-BBB8-34984FC6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86D-4B19-4B7D-98AD-3FB90C0B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EBC4-BE3C-4446-8E2E-26BE830F7A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4994-D922-4D36-B66F-03602F7197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muhammad cartoon"/>
          <p:cNvPicPr/>
          <p:nvPr/>
        </p:nvPicPr>
        <p:blipFill>
          <a:blip r:embed="rId1"/>
          <a:stretch/>
        </p:blipFill>
        <p:spPr>
          <a:xfrm>
            <a:off x="304920" y="152280"/>
            <a:ext cx="4952880" cy="4275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9" name="Text Box 5"/>
          <p:cNvSpPr/>
          <p:nvPr/>
        </p:nvSpPr>
        <p:spPr>
          <a:xfrm>
            <a:off x="5334120" y="1522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Bellringer   3/7/20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715000" y="685800"/>
            <a:ext cx="3276720" cy="41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Tahoma"/>
              </a:rPr>
              <a:t>Much like the political cartoon on this slide, we have a tainted view of Islam and of Muslims.  Answer the following questions on your bellringer page.  You have the first 4 minutes of class to get this d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0" y="4471920"/>
            <a:ext cx="914400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hat are some of the stereotypes of Muslims you and your group have?  List at least 3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y do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elieve that we have these stereotype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st two things you already know/think you know about Isl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20:10:04Z</dcterms:created>
  <dc:creator>admin</dc:creator>
  <dc:description/>
  <dc:language>en-US</dc:language>
  <cp:lastModifiedBy>admin</cp:lastModifiedBy>
  <dcterms:modified xsi:type="dcterms:W3CDTF">2012-03-07T13:19:36Z</dcterms:modified>
  <cp:revision>9</cp:revision>
  <dc:subject/>
  <dc:title>Slide 1</dc:title>
</cp:coreProperties>
</file>